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302-FEAD-40F3-AA2B-A89114AC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0E0-4132-43C9-A73A-54E4B05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A3D67-3AFB-4B8D-BD0F-2164EE18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FA312-F8C6-463E-830C-EA252555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D65CA-65F6-4B7F-9D8E-F9B0EDC3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981E-25C4-48D7-9953-5FA971A1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A541A-2EE4-4FBF-ABE7-742541C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693D4-FF67-4911-8F7E-7992FC3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E1D50-AC2F-48C7-A4A7-23736D3F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A6C8-E9A3-4EE1-BBA8-CE5FD6CD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30FDA-5362-4B01-A3EA-7EABA58D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21279-6A4B-4E25-8208-F86172B3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D50-A7CE-4F66-8B15-10F467E3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42B06-536E-44DB-AAD0-BF61124F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7B0A2-A7A1-4A6E-B704-085CEA5E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BBE73-0492-47BB-A398-25F424E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9927C-6E3C-44D6-9076-DA11EB0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E99F3-EC7A-4A74-9019-DFC59C9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BEB84-B1CA-4508-A454-2A4205E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6C763-70CF-47A2-92E3-033BF221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48A87-125B-4E07-A2A6-A5A8593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C0250-BDD5-48BC-859E-E9C9550C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60FCD-F651-4635-AB89-27F58D4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A68-6877-4030-B1A5-1D73301A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E73FA-7027-4A91-8FBA-CEBCD630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D7F50-877A-4019-A8B1-28416527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35F81-D78D-4D74-B9C9-FD3158C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584A5-E64A-4B25-B8A2-D5A10B2E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20BC-AE9B-4FA3-91DA-6982C377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0F9FD-2480-470C-BB56-38896028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528DB-35BF-4371-9321-CFD52EA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EB4D9-69EC-49CF-A410-CA186EE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27956-7B10-46B6-8BA4-4B5D5007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AA63D-0A00-4D4E-9FCD-5409FE76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330-15DF-4FF0-AA35-AF432D80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58FF6-73B5-4EC1-960A-AC0AC9A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B556B-B368-44D0-9353-C9EC1DA9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679D6-C314-467A-81CD-1D7497DB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755FC-585B-4E69-A4B1-A8F46365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B2992-4D24-4153-8915-FAE64839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68241-AB1E-45E0-A92F-EA6A36A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14C4F-ABD3-4F16-940A-0529D97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389FE-D6F5-40D8-9B8F-A6004141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9E867-F395-47FF-9B76-9E3ADA6C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6941-EF83-4D4A-948E-BE9A7256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9D16-C43F-4B20-92DF-37276133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437D5-DCEE-4EB3-AF56-FC178B8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5300B-A1BD-480B-99E1-0401A5DF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072A1-0ABD-4FBC-B1AE-36732F4B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B32D4-A11B-412B-93DE-65ED40CE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6955B-06EB-43D5-9FEC-1D502DD1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C9679-5FB5-4A5A-9558-821FB13F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20B24-0643-45FD-A0B8-73635AF9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5ADDA-4BDE-4AA4-96B8-1E68405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68197-87FC-4607-B8E0-82BF233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1F440-9974-4C99-921B-A84057E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209-21AE-48CA-B766-7287055D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B51AF-895D-40A2-A9FF-12CE763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2ED50-8283-4BDE-8C37-981BD14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0D09D-0C14-4D9A-B76E-D7D170F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91460-D362-4C16-A784-7193FC0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26F78-620F-4774-AAA1-F7F68A9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38BE7-5F62-4C13-8352-23BE9205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AD277-9916-4BE1-AD36-7BA617AF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11590-B8A9-4508-80F9-10222444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BD1F2-D37A-434C-87D6-1F66B9DC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78F12-2A01-4453-A4F5-1203107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962E-1035-461A-BF16-FCB1A2A1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247CD-FE21-43C1-BAC6-D7796142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707AD-5F42-43B2-933D-3BDCC722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7A2AF-6CC8-4B72-BFB6-2D861E9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C835E-3F55-4F48-B0F0-F141218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DBBAB-424C-4212-B779-22EAAF7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F394F-5CF2-4C4C-8BF4-5A72EB4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9CC47-5BD7-4A6D-80EE-AE0BC814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B45FF-CFF7-41C1-B70E-77E87CF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07CE5-6D99-4B16-982F-B07B5BB8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089EF-8EB2-4DD4-9DF1-0E0E96AE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C978-0F73-4EF3-9A4D-9B3992F1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80FB1-2933-448D-9C11-B55778C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5EFDC-A534-4363-ADFE-1089D9E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C01A6-BBBD-458A-95C3-3C623457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F2ADC-D57A-40FE-A1A5-3AC3F49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66C3B-D20F-4256-B6A5-D38E56A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D742C-68B4-4516-9762-52CD94A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86C43-F1A5-4AF0-A18D-20EDACA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29825-4B23-48B9-96D6-E8264E9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15AE2-6A55-491E-98FB-8ECDA34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97184-5975-45A5-9C32-400DF954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314-2F86-4876-9199-42E9B06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62779-28EF-49DB-B27D-1B294673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82D3B-09C2-4686-AE21-8AE73F44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15ACE-0451-4C28-999F-4974249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CC2D5-76D4-4F5B-96CA-71A4905B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EBB94-EBAE-43F5-ADF8-90BE6B38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CAFDF-EFF8-4C6F-B29B-B2C9B172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94AF3-343B-452C-8617-F61B88D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13593-1620-4B71-AA7E-8DC9ACC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12788-1252-40FB-B9A4-AE8F8537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1342FF-9370-4131-9917-E74CCA4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877B-949D-4E28-A583-6E5D0F4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530FB-0829-46E8-96FE-5B9082BC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70F48-BCDE-44D6-8EDF-718D5B79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AA665-D358-4D87-9BA4-7987C19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56756-C071-4F5F-9587-4D0BDD77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41584-A558-4C16-8556-E81FA1D1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BE149-E773-481C-9BB2-9F7A047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58ECC-CF96-41EC-BE7D-EC9B29AC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43B7A-0616-4FB8-B2B7-1A7B31C0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61C3C-F54A-4F63-8C42-E21C0981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169AB-5CE5-4E69-8CB9-AFD8D8E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CD0-0714-4A30-A046-76B668A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8012-8515-47CA-B6B8-14B90C4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DF462-970B-4FDA-A9D4-F66F9D2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0C5B7-9746-47EA-B8BC-83221DF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904CC-A377-4EB0-B4E3-59135A4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9F792-3850-4EBB-97C8-8474CD55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F6C11-1F0D-4E34-81D3-977593A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A8843-B357-4850-A3A7-9FEAEC7F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02CE4-1040-4344-A59A-D0276D65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198AB-7D3A-4122-9589-C08E545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A50ED-9FBD-4E82-92DA-DB4F143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1DC0F-BEA0-48F4-ABFB-96E1CD3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84F8-8138-40C9-94CE-BA7A9EE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17C7D-D875-4AA7-BDAE-4F32ECC9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E0002-49EB-41CF-9D71-0F0B16F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71CCD-3726-46C6-8731-6971537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46C44-2C3E-4B6F-B23E-AB483C39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10FF9-BA88-480E-BC4E-46C9AEA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C14A4-8458-4C05-BF47-FC31F98B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52653-6220-4887-BAAC-88318D9F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85520-2C81-4461-8DF0-A6042C3B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8D8CF-F4F4-4A06-AA01-12AD49C2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EF705-8101-4E56-94ED-37BA863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1FC8-9DB4-41FE-AB62-91EB975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9B49A-F052-4161-BF39-8A6DE0D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15EEB-850C-4CA8-BAF8-1BE71041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A5038-4706-4619-BB46-75F25EB2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0B554-8161-47CC-ABB4-20AD377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CF865-D7C0-469C-9379-832A79CC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65DDE-0078-467C-9929-3BC89637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0C751-D61A-4E61-86AD-B3CAFD9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AA83E-92C5-4D60-9B2A-A9E59404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2C333-E5F0-4E05-81DE-A5A72E3E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4C542-1078-4AE8-9CF8-FF03B05C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BABF-F4AC-48A9-9878-153F25C6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B2526-2197-47DF-9E14-7942592F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E7BA5-064F-4C0E-9E09-5154E09C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1F709-AC64-427E-BEBC-F80A229D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78CB5-EEA9-4A71-8A3A-B52F3B58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D0680-0C72-4FCD-B686-AA644E81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638F1-EACF-4035-8899-1755C84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4FB03-AA6B-4CEE-96E5-0D654E7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BEFB8-4A21-4B78-806C-E492DD0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E472B-6403-4A13-A926-D8F62AD4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7E664E-F057-4378-A3C9-3BF8122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3C8B-B2AF-412A-8F93-42C7B72E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62F95-AA02-4789-B911-3350FE8B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8825D-F404-44EC-ABA4-7D7FC882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70E6A-5963-4DD0-BCE7-2CDD1B50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37FE1-3DF2-45E6-BEF9-17EC1DD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32A2E-D550-4D47-86C7-525C338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4C36F7-364A-4863-9C79-98F07279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6DE2F-5A6B-4B3F-B567-D09974C4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BCFCE-BE67-4260-8DA3-78B5E237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C7F55-0A89-4BA8-A72E-734248A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7E89C-F309-4091-9E80-3E0A3A8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8BAB-7B07-4904-B60A-B15A1008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D9AEC-F4A8-4C00-BB95-E4F35DFD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BCCAE-1D2C-4AA5-BD2E-FC6DAB40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BC9CC-F220-4C97-8E82-316B41D0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EA53-0C7A-42D2-A82A-4F72751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715E-D164-4E6E-83B7-4B907FE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9960-A114-4B67-AA51-6F91F0D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FD3D-9CFC-48AB-A6BD-0E2D5B45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3DC-09EC-4195-9CF8-FB6E8C3D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B0B8-D1FE-4BAD-A152-D3E35B5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104A-6A0B-4D3E-9868-7930770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296B-08C8-4B26-AE88-DA827F41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E171-F213-4C44-8052-3A9EB7B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0FD5-1E55-4A9E-846A-696ACF4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9446-22D8-41C3-BF7F-94675AA8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284F-D70E-4836-A7CA-5687D251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BAB2-5947-40B1-BCD4-8D6364EF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6713-A53E-48A8-A1A7-00B19667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F80C-A12A-46C8-9920-BFF35AC8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33F-3148-438A-85F1-5C645436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3401-EE1D-4C34-9B29-8577150F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EB42-3B1D-49A3-A0B5-CFD1D07E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6BD4-8C17-490B-A219-ACA40B3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87C7-36A7-46A4-951C-C7A934F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4551-5524-4272-B7F7-965824E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8A17-DC79-4B6F-9A4B-5717D213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BE88-973E-451A-832B-39755F7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C85F-C73B-4A30-8E56-C3A65808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0E29-05AC-483A-9260-0E59C462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C1A8-1E88-4954-8A49-56414BD1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E40-215E-461C-89EB-02544D0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08256-DF8C-4A2B-8082-2A63BE09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2439-D8BE-4F5A-BE30-8C023F40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476E-B21D-4133-BB30-C7DE6AB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8F9A-3063-422B-ACFF-FF6137F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0B6C-9C88-4676-8970-492D1101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DE74-C82E-47E5-99F9-8E16B62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B0DC-197D-47D8-8163-805891C3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546E-1793-4FA4-844B-6F21606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395A-9882-4CE0-B436-1ED59956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F674-EB4F-4352-84C5-5A3AFFAF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46F-D21C-47DA-ABB3-E2F3AA03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6A89-5580-42C8-B380-6B27F5BA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204D-5E5F-4CDE-8557-96D6FE0C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CD44-3A83-4EFE-B7BE-3846F97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4E6E-E0A1-4072-8959-8DE1825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1657-F519-476A-8828-B682C65C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4DF1-9433-48A1-A27B-CDC54B2F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2092-A040-428D-8E46-D04B490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0F27F-0C9C-46AF-B8A5-7AABFE1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978EA-DA26-4E20-A120-336991E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8426-D527-422D-B513-CBDFC00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EF1-F78B-4B63-AB67-68D2D24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C5179-F63A-421F-BFCE-57C7200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52D6-36EE-4D19-879F-A5A29088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84CCD-B3BC-4FF1-9C54-6EC3950A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3C2FE-DF59-4188-80A3-3346181A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1AA0-A90F-4914-8A4A-91A68C3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2E34-CF60-4FE6-8233-46D9673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856E9-9C19-4DDD-B1EC-8CC19816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4F36-2407-447E-9FEA-09941CB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857E-AEF8-4EC8-A2D6-C9466058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423F-52CF-4449-9F92-76D7257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D07-4B34-4A48-A701-AE28259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8ACE3-F4E3-4D21-9F6E-85D082D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B26B-712F-483B-9B4C-BE0D3F2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E0EC9-1EAE-4353-86F2-3065E7B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F5B7-5CE5-4979-95B5-AAFD3581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72DE-E936-47B3-A383-7429F30B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BA701-EE80-423D-B290-B1162155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752B6-4320-45FB-BAE7-464CDE5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A146-0B13-42C8-9C46-A676AEF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C1B4-92BD-479F-8410-6EBA3B97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DC939-1C11-4BF3-8B19-77A71016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8E1-A14B-45BB-9888-E68AC12C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1A3B9-BE1C-40FA-8EAE-6D75BDC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3DED0-2CA2-4120-B264-917C140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5D4F0-1A28-431C-A0DD-452FDF3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E9822-DDEF-4D89-86CC-A5FD7D2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6409-475F-40C5-8EC3-4AE3575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BD111-02A0-49BE-B974-D40D4A91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34902-D8A8-42C1-8C20-1C24126B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F8D6E-B580-44F8-AEC3-B6E531CA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779C2-EEFB-4FB6-AFF0-392982FE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F74D4-4AAD-4D81-B27A-6BD2407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40F-37FB-43F4-A013-5D6FFC3B7B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AEF-6863-44E5-AF57-78236E5BE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8F3-71D5-4BED-8408-5C5C30C4B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BB0-9873-42C9-9582-0C75504B8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952-6729-4F7B-9271-AE31EEEF9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322-01AD-49CD-B0B9-2639371C1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B7A8-FE71-411E-95BC-2514F2B99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65C-DA94-4BE8-A428-1DE6B99B1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CD82-E5FE-42FC-BAD7-90763D1029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1D0E-BDEF-42BF-81AB-83CE696195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4CD-E784-4174-935E-399BDCB5BD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880-0C29-43C2-B95E-5A1CBBB3A0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31B-F75F-40AA-8DD4-C9338FB13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0E7D-6AB5-407D-BFF0-AA2D2BDB9D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63D-C93A-4633-8722-7EEA01973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D487-FB1A-461B-AE44-0FD37CB9B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C75A-FEDB-4DED-9B92-B4488316F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895E-664D-4957-A45A-D924E611CF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8C2-DF69-446B-989C-F7157E7576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3AAA-52F1-434E-BD2F-AAE80E674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9409-03B7-48B7-BF73-B8D8703D4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F42-85CB-4569-A023-116D17CB7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2130-C404-4D1D-9D35-29A88DB70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CD43-7A9F-4320-98B8-D7DFDD15ED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5F0-EF3F-4A94-96CB-AB5F4A8611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694-DCA5-411E-A6F3-1911E33A5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CE64-D11D-4EEE-9359-D50731FFD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82D-7512-405F-9D4C-4B023F090D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38D4-205C-4FA6-8DA4-68A5E873D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C1B-532D-430F-BE73-51DBA4A4A7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5D58-2626-4C14-ADFC-3CCF13F35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C21-761A-4F57-A13A-BF90D44D5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B7DF-318A-4A1F-A11F-52BA001DC3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1273-EB90-4C46-A19F-3E5B2CC57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F39B-AA75-400D-94D1-BC6781775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9513-E984-4E8F-9D80-CA946F689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521-762C-4CAD-B213-58B1093AE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25E3-2857-4BF6-8C2F-0736CF9C2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9754-69F7-4C48-BB77-15FDEDF61F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411-F784-48DD-BF4F-BD6A72D77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95400" y="3014640"/>
            <a:ext cx="89532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9633" descr=""/>
          <p:cNvPicPr/>
          <p:nvPr/>
        </p:nvPicPr>
        <p:blipFill>
          <a:blip r:embed="rId1"/>
          <a:stretch/>
        </p:blipFill>
        <p:spPr>
          <a:xfrm>
            <a:off x="1076400" y="1843200"/>
            <a:ext cx="6991200" cy="3171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00000" y="2463840"/>
            <a:ext cx="73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73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971640" y="3745080"/>
            <a:ext cx="7343640" cy="4759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7343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8609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6496200" cy="5610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1476360" y="2117880"/>
            <a:ext cx="5759640" cy="4759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5759640" cy="47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1042920" y="5373720"/>
            <a:ext cx="5759640" cy="476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1042920" y="6021360"/>
            <a:ext cx="575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7585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496200" cy="191448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7586" descr=""/>
          <p:cNvPicPr/>
          <p:nvPr/>
        </p:nvPicPr>
        <p:blipFill>
          <a:blip r:embed="rId2"/>
          <a:stretch/>
        </p:blipFill>
        <p:spPr>
          <a:xfrm>
            <a:off x="793800" y="3284640"/>
            <a:ext cx="4857840" cy="3028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755640" y="164304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971640" y="2349360"/>
            <a:ext cx="6264360" cy="476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611280" y="4292640"/>
            <a:ext cx="6264360" cy="865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6264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6561" descr=""/>
          <p:cNvPicPr/>
          <p:nvPr/>
        </p:nvPicPr>
        <p:blipFill>
          <a:blip r:embed="rId1"/>
          <a:stretch/>
        </p:blipFill>
        <p:spPr>
          <a:xfrm>
            <a:off x="942840" y="1881360"/>
            <a:ext cx="7258320" cy="3095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6408720" cy="476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6408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5537" descr=""/>
          <p:cNvPicPr/>
          <p:nvPr/>
        </p:nvPicPr>
        <p:blipFill>
          <a:blip r:embed="rId1"/>
          <a:stretch/>
        </p:blipFill>
        <p:spPr>
          <a:xfrm>
            <a:off x="1747800" y="2367000"/>
            <a:ext cx="5648400" cy="212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1619280" y="2981160"/>
            <a:ext cx="5329080" cy="476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5329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64513" descr=""/>
          <p:cNvPicPr/>
          <p:nvPr/>
        </p:nvPicPr>
        <p:blipFill>
          <a:blip r:embed="rId1"/>
          <a:stretch/>
        </p:blipFill>
        <p:spPr>
          <a:xfrm>
            <a:off x="942840" y="1133640"/>
            <a:ext cx="7258320" cy="4590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826920" y="2463840"/>
            <a:ext cx="6769440" cy="11095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684360" y="3760920"/>
            <a:ext cx="67690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63489" descr=""/>
          <p:cNvPicPr/>
          <p:nvPr/>
        </p:nvPicPr>
        <p:blipFill>
          <a:blip r:embed="rId1"/>
          <a:stretch/>
        </p:blipFill>
        <p:spPr>
          <a:xfrm>
            <a:off x="257040" y="900000"/>
            <a:ext cx="8629920" cy="50580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684360" y="3255840"/>
            <a:ext cx="8280360" cy="476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8280360" cy="7920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324000" y="5027760"/>
            <a:ext cx="8280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62465" descr=""/>
          <p:cNvPicPr/>
          <p:nvPr/>
        </p:nvPicPr>
        <p:blipFill>
          <a:blip r:embed="rId1"/>
          <a:stretch/>
        </p:blipFill>
        <p:spPr>
          <a:xfrm>
            <a:off x="533520" y="1486080"/>
            <a:ext cx="8076960" cy="38862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468360" y="2736720"/>
            <a:ext cx="8207280" cy="476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8207280" cy="475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8207280" cy="476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395280" y="4667400"/>
            <a:ext cx="8207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1441" descr=""/>
          <p:cNvPicPr/>
          <p:nvPr/>
        </p:nvPicPr>
        <p:blipFill>
          <a:blip r:embed="rId1"/>
          <a:stretch/>
        </p:blipFill>
        <p:spPr>
          <a:xfrm>
            <a:off x="290520" y="1123920"/>
            <a:ext cx="8562960" cy="4610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684360" y="244944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611280" y="3083040"/>
            <a:ext cx="5975280" cy="476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611280" y="3730680"/>
            <a:ext cx="5975280" cy="8506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8424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66760" y="733320"/>
            <a:ext cx="8610480" cy="5791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956720" y="134136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8028000" y="3357720"/>
            <a:ext cx="5763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43000" y="1533600"/>
            <a:ext cx="8658000" cy="3790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414972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43000" y="923760"/>
            <a:ext cx="8658000" cy="5010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028000" y="155736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028000" y="414972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7352" descr=""/>
          <p:cNvPicPr/>
          <p:nvPr/>
        </p:nvPicPr>
        <p:blipFill>
          <a:blip r:embed="rId1"/>
          <a:stretch/>
        </p:blipFill>
        <p:spPr>
          <a:xfrm>
            <a:off x="237960" y="866880"/>
            <a:ext cx="8668080" cy="5124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028000" y="2795760"/>
            <a:ext cx="576360" cy="475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427640" y="5416560"/>
            <a:ext cx="143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6324" descr=""/>
          <p:cNvPicPr/>
          <p:nvPr/>
        </p:nvPicPr>
        <p:blipFill>
          <a:blip r:embed="rId1"/>
          <a:stretch/>
        </p:blipFill>
        <p:spPr>
          <a:xfrm>
            <a:off x="371520" y="1800360"/>
            <a:ext cx="8400960" cy="3257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236000" y="2521080"/>
            <a:ext cx="1152360" cy="476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348000" y="3817800"/>
            <a:ext cx="1655640" cy="476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3348000" y="4465800"/>
            <a:ext cx="115272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5300" descr=""/>
          <p:cNvPicPr/>
          <p:nvPr/>
        </p:nvPicPr>
        <p:blipFill>
          <a:blip r:embed="rId1"/>
          <a:stretch/>
        </p:blipFill>
        <p:spPr>
          <a:xfrm>
            <a:off x="257040" y="733320"/>
            <a:ext cx="8629920" cy="5391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2556000" y="2593800"/>
            <a:ext cx="1295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4276" descr=""/>
          <p:cNvPicPr/>
          <p:nvPr/>
        </p:nvPicPr>
        <p:blipFill>
          <a:blip r:embed="rId1"/>
          <a:stretch/>
        </p:blipFill>
        <p:spPr>
          <a:xfrm>
            <a:off x="252360" y="1204920"/>
            <a:ext cx="8639280" cy="4448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093080" y="1239840"/>
            <a:ext cx="86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00000" y="1873080"/>
            <a:ext cx="863640" cy="476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11280" y="447984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11280" y="5157720"/>
            <a:ext cx="540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2231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6553080" cy="17622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52232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8096040" cy="3724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79280" y="1600200"/>
            <a:ext cx="6913800" cy="476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6913440" cy="475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250920" y="4307040"/>
            <a:ext cx="8353440" cy="475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324000" y="488304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468360" y="554508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468360" y="619452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9:4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